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4246-709F-4F12-A051-75A9F5434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8632-0909-4960-B067-DB7AE5537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BA71-B33D-422A-A1CC-F93FB6A7B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463C-87FD-420A-A3C8-A9B79F94D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24F5-2C12-420E-ACDC-0CB003A69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8197-8BFC-422B-AB96-DF81EB7C6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3F5B-0041-451B-A4FC-AAD255C57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4E07-F706-4D4B-A51D-4FEEBEE5F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2DA6-E91B-44EF-BBA5-DEBFC8A8C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7090-1830-41A9-BA06-C204E159D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57F4-5683-43C2-9FDD-E46ADB071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AAB8-BA41-42D4-AB72-309B6C1B2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784C-693A-4133-9738-1C59260E0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E145-4434-4874-8A49-9AE01994D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9C5-9833-4DCE-B317-AF3F14E3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BC1-75D2-4D40-B5DC-B6EA8F2E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C67-3D53-4D31-8918-89654068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820-E49F-4E3F-B6EF-6F435758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FA5-CA0A-445D-8B52-8DA7D218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856-3247-4324-8EDC-CC66ADDB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C29-0AAD-45E2-A8C8-82090F70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65A-0D59-48CF-A8A4-199680A7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85D-7F22-4DA3-9CEB-80B65E98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9EC-0979-430D-A286-2BF596D4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F8A-455A-4CD3-B036-6FB18F61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7DD-E43A-49B3-901D-F163CC9D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6C5D-6C88-4701-96E4-8B9ED3DAE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althyplaces.org.a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2214720"/>
            <a:ext cx="7858080" cy="39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Arial"/>
              </a:rPr>
              <a:t>HEALTHY SPACES AND PLACES</a:t>
            </a:r>
            <a:br>
              <a:rPr sz="5400"/>
            </a:b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www.healthyplaces.org.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8800" y="2214720"/>
            <a:ext cx="7215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ks and Open Space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public parks and open sp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s stress levels, increases physical activity and enhances social outcomes. 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42960" y="3286080"/>
          <a:ext cx="8286840" cy="2560680"/>
        </p:xfrm>
        <a:graphic>
          <a:graphicData uri="http://schemas.openxmlformats.org/drawingml/2006/table">
            <a:tbl>
              <a:tblPr/>
              <a:tblGrid>
                <a:gridCol w="4218120"/>
                <a:gridCol w="406872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park is pleasant and welcom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ct and enhance any environmental, cultural and heritage valu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it is safe or perceived to be saf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equitable access to reside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5" descr="Cooma Aust Day Concert Jan 09.JPG"/>
          <p:cNvPicPr/>
          <p:nvPr/>
        </p:nvPicPr>
        <p:blipFill>
          <a:blip r:embed="rId2"/>
          <a:stretch/>
        </p:blipFill>
        <p:spPr>
          <a:xfrm>
            <a:off x="981000" y="3267000"/>
            <a:ext cx="33958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28800" y="2428920"/>
            <a:ext cx="7215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lking, cycling and public transport use increases daily physical activity levels and improves social well being.  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71680" y="3500280"/>
          <a:ext cx="8286480" cy="2560680"/>
        </p:xfrm>
        <a:graphic>
          <a:graphicData uri="http://schemas.openxmlformats.org/drawingml/2006/table">
            <a:tbl>
              <a:tblPr/>
              <a:tblGrid>
                <a:gridCol w="4217760"/>
                <a:gridCol w="406872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grate active transport into the transport plann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st in required infra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a variety of destinations (such as schools and shops) within walking or cycling distance of 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public transport provision by density and mixed land use provis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Picture 6" descr="Bikes at Library Dickson ACT Feb 08.JPG"/>
          <p:cNvPicPr/>
          <p:nvPr/>
        </p:nvPicPr>
        <p:blipFill>
          <a:blip r:embed="rId2"/>
          <a:stretch/>
        </p:blipFill>
        <p:spPr>
          <a:xfrm>
            <a:off x="907920" y="3498840"/>
            <a:ext cx="33958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king it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4280" y="2714760"/>
            <a:ext cx="73584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healthy design principles across a range of business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, fund and bui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community and look for other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and Tr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ell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Succ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and im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re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1720" y="2857320"/>
            <a:ext cx="750096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y Spaces and Places: National guide to designing places for healthy l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healthyplaces.org.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is it importa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28920" y="2786040"/>
            <a:ext cx="65008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demic of chronic dise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as cardiovascular diseases, arthritis, diabetes and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Obesity rat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about half of the adult population are overweight or ob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nsufficient physical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ental heal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or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revalent and in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C:\Documents and Settings\ldeChastel\Local Settings\Temporary Internet Files\Content.IE5\NBCNOQHR\MCj00905570000[1].wmf"/>
          <p:cNvPicPr/>
          <p:nvPr/>
        </p:nvPicPr>
        <p:blipFill>
          <a:blip r:embed="rId2"/>
          <a:stretch/>
        </p:blipFill>
        <p:spPr>
          <a:xfrm>
            <a:off x="642960" y="2857680"/>
            <a:ext cx="1592280" cy="142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:\Documents and Settings\ldeChastel\Local Settings\Temporary Internet Files\Content.IE5\J7ZK45LA\MCBD07195_0000[1].wmf"/>
          <p:cNvPicPr/>
          <p:nvPr/>
        </p:nvPicPr>
        <p:blipFill>
          <a:blip r:embed="rId3"/>
          <a:stretch/>
        </p:blipFill>
        <p:spPr>
          <a:xfrm>
            <a:off x="428760" y="4572000"/>
            <a:ext cx="182700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905120"/>
            <a:ext cx="7918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e health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71400" y="2857320"/>
            <a:ext cx="650052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valence of overweight and obesity in Australia has been steadily increasing over the last 3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overweight and obese adults increased from 4.6 million in 1989–90 to 5.4 million in 1995, 6.6 million in 2001 and 7.4 million in 2004–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25% of children are overweight or obese, up from an estimated 5% in the 196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the Eviden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consistent evidence that mixed density, mixed land use and high street connectivity are associated with increased walk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alk more if they perceive streets are saf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 aesthetical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bility to public spaces designed for all ages and stages of life will result in greater use and physical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5880" y="2071800"/>
            <a:ext cx="7215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 Princi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42960" y="3286080"/>
          <a:ext cx="8286840" cy="3017880"/>
        </p:xfrm>
        <a:graphic>
          <a:graphicData uri="http://schemas.openxmlformats.org/drawingml/2006/table">
            <a:tbl>
              <a:tblPr/>
              <a:tblGrid>
                <a:gridCol w="4218120"/>
                <a:gridCol w="4068720"/>
              </a:tblGrid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ne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s for All Peo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xed Dens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xed Land 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ks and Open Sp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cial Inclu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ing Infra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e Trans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esth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fety and Surveil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56840" y="3357720"/>
            <a:ext cx="6357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s of Design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520" y="2071800"/>
            <a:ext cx="8072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vironments for All People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e of belong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positively benefit an individual’s personal mental health and wellbe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42960" y="3286080"/>
          <a:ext cx="8286840" cy="3200400"/>
        </p:xfrm>
        <a:graphic>
          <a:graphicData uri="http://schemas.openxmlformats.org/drawingml/2006/table">
            <a:tbl>
              <a:tblPr/>
              <a:tblGrid>
                <a:gridCol w="4218120"/>
                <a:gridCol w="40687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community infrastructure and facilities for all 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community participation in the planning and decision mak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 and maintain attractive, well designed and maintained public spaces and pla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a range of community services targeting specific needs grou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5" descr="Kids climbing Townsville May09.JPG"/>
          <p:cNvPicPr/>
          <p:nvPr/>
        </p:nvPicPr>
        <p:blipFill>
          <a:blip r:embed="rId2"/>
          <a:stretch/>
        </p:blipFill>
        <p:spPr>
          <a:xfrm>
            <a:off x="1054080" y="3413160"/>
            <a:ext cx="34624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0080" y="2071800"/>
            <a:ext cx="7215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nectivity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ased connectivity = increased walkability = better health 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2960" y="3286080"/>
          <a:ext cx="8286840" cy="2651040"/>
        </p:xfrm>
        <a:graphic>
          <a:graphicData uri="http://schemas.openxmlformats.org/drawingml/2006/table">
            <a:tbl>
              <a:tblPr/>
              <a:tblGrid>
                <a:gridCol w="4218120"/>
                <a:gridCol w="4068720"/>
              </a:tblGrid>
              <a:tr h="26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a highly interconnected street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routes provided along predictable paths of tra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ve a variety of local destinations within easy walking dista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density increases together with an increased mix of 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Picture 5" descr="walkway at Bateman's Bay1 NSW Jan 09.JPG"/>
          <p:cNvPicPr/>
          <p:nvPr/>
        </p:nvPicPr>
        <p:blipFill>
          <a:blip r:embed="rId2"/>
          <a:stretch/>
        </p:blipFill>
        <p:spPr>
          <a:xfrm>
            <a:off x="1054080" y="3286080"/>
            <a:ext cx="33465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S&amp;P ppt slides_0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999800"/>
            <a:ext cx="721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fety and Surveillance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proves perceptions of safety and increases use = more physical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00040" y="3286080"/>
          <a:ext cx="8286840" cy="2714760"/>
        </p:xfrm>
        <a:graphic>
          <a:graphicData uri="http://schemas.openxmlformats.org/drawingml/2006/table">
            <a:tbl>
              <a:tblPr/>
              <a:tblGrid>
                <a:gridCol w="4218120"/>
                <a:gridCol w="4068720"/>
              </a:tblGrid>
              <a:tr h="27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ign streets to increase the presence of peop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ign buildings to provide natural surveillance of the str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te parks, play areas and public open spaces so they are visi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ign car parks to maximise natural surveillance and pedestrian visibi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5" descr="Surrey Hills Park Syd CBD Feb 09.JPG"/>
          <p:cNvPicPr/>
          <p:nvPr/>
        </p:nvPicPr>
        <p:blipFill>
          <a:blip r:embed="rId2"/>
          <a:stretch/>
        </p:blipFill>
        <p:spPr>
          <a:xfrm>
            <a:off x="981000" y="3193920"/>
            <a:ext cx="3468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2:35:02Z</dcterms:created>
  <dc:creator>Liam</dc:creator>
  <dc:description/>
  <dc:language>en-US</dc:language>
  <cp:lastModifiedBy>karen.Wright</cp:lastModifiedBy>
  <dcterms:modified xsi:type="dcterms:W3CDTF">2009-06-04T02:43:13Z</dcterms:modified>
  <cp:revision>197</cp:revision>
  <dc:subject/>
  <dc:title>PowerPoint Presentation</dc:title>
</cp:coreProperties>
</file>