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55960" y="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2232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656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5ca656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7560" y="4719240"/>
            <a:ext cx="499140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4388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55960" y="944388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ECB849D-9193-4BE3-811A-D6CF863FE737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07560" y="4719240"/>
            <a:ext cx="49914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55960" y="9443880"/>
            <a:ext cx="2951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98A86D8-663E-4674-AF13-DA334BB8414D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07560" y="4719240"/>
            <a:ext cx="49914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55960" y="9443880"/>
            <a:ext cx="2951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CC6465E-00AE-4BFE-A13B-E24D48EBB303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07560" y="4719240"/>
            <a:ext cx="49914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55960" y="9443880"/>
            <a:ext cx="2951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C144635-7ECE-46B5-BD01-8E2B40C2C1F4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07560" y="4719240"/>
            <a:ext cx="49914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55960" y="9443880"/>
            <a:ext cx="2951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81B60D2-8106-496B-9430-6CD17DE3DCE1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07560" y="4719240"/>
            <a:ext cx="49914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55960" y="9443880"/>
            <a:ext cx="2951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FAF53F6-CC68-4885-9CD2-F8DC63BA97EE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7560" y="4719240"/>
            <a:ext cx="49914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55960" y="9443880"/>
            <a:ext cx="2951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F16F417-CD4E-494E-B705-584F4AE0FB4E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07560" y="4719240"/>
            <a:ext cx="49914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55960" y="9443880"/>
            <a:ext cx="2951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AC75CFE-A292-4D2F-A793-9FC69298039E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07560" y="4719240"/>
            <a:ext cx="49914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55960" y="9443880"/>
            <a:ext cx="2951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8AA30EC-1EDA-4720-A44F-02CF4EDD9A8C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07560" y="4719240"/>
            <a:ext cx="49914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55960" y="9443880"/>
            <a:ext cx="2951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E4610A2-8E51-41ED-B7A4-879E806A0BD2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55960" y="9443880"/>
            <a:ext cx="2951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70BA061-5342-4914-B3DF-52A60509F686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07560" y="4719240"/>
            <a:ext cx="499140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Notes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_______________________________________________________________________________________ _______________________________________________________________________________________________________________________________________________________________________________________ _______________________________________________________________________________________________________________________________________________________________________________________ _______________________________________________________________________________________________________________________________________________________________________________________ _______________________________________________________________________________________________________________________________________________________________________________________ _______________________________________________________________________________________________________________________________________________________________________________________ 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07560" y="4719240"/>
            <a:ext cx="49914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55960" y="9443880"/>
            <a:ext cx="2951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18FCA05-63C5-4747-8845-7E1FA68C87F6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07560" y="4719240"/>
            <a:ext cx="49914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55960" y="9443880"/>
            <a:ext cx="2951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116028E-5586-4A04-87CD-4F6C476A8D2D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07560" y="4719240"/>
            <a:ext cx="49914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55960" y="9443880"/>
            <a:ext cx="2951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BEA44F5-ABC1-46CD-8F24-40F176DA97D8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BD52-8C61-4706-92E5-C74FC8AD1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65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3312-A3C4-4E9B-8A7F-9192471F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65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5849-76A2-4AC2-B7A6-7C1F184E2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65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0568-7CD3-487F-B5A9-5923CDE23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65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6C86-EF6F-4833-8A2A-973BE0E6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65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9490-76C9-41DB-A0ED-F183E08A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65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A287-EB0D-4B4D-A46F-880EB298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65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E621-BACF-43D9-9AE7-14A74662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3AAF-BEDA-44A3-8979-721C63C8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65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A486-A9D5-4AE6-87BD-66872404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65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EB7B-74BF-459E-BD35-F7A2E1BF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65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099F-8DE8-404B-815D-5B593317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directleisurely paths11"/>
          <p:cNvPicPr/>
          <p:nvPr/>
        </p:nvPicPr>
        <p:blipFill>
          <a:blip r:embed="rId2"/>
          <a:srcRect l="0" t="0" r="-14" b="19"/>
          <a:stretch/>
        </p:blipFill>
        <p:spPr>
          <a:xfrm>
            <a:off x="0" y="54000"/>
            <a:ext cx="6175440" cy="6804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B0FA-6979-4FDE-BADE-82BD029B1395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65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ca65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772400" cy="24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AU" sz="3200" spc="-1" strike="noStrike">
                <a:solidFill>
                  <a:srgbClr val="5ca656"/>
                </a:solidFill>
                <a:latin typeface="Verdana"/>
              </a:rPr>
              <a:t>Planning for Healthy Urban Communities in Australia –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AU" sz="3200" spc="-1" strike="noStrike">
                <a:solidFill>
                  <a:srgbClr val="5ca656"/>
                </a:solidFill>
                <a:latin typeface="Verdana"/>
              </a:rPr>
              <a:t>The Healthy Places and Spaces Project</a:t>
            </a:r>
            <a:endParaRPr b="1" lang="en-US" sz="3200" spc="-1" strike="noStrike">
              <a:solidFill>
                <a:srgbClr val="5ca65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PIA-logo- generic colour high"/>
          <p:cNvPicPr/>
          <p:nvPr/>
        </p:nvPicPr>
        <p:blipFill>
          <a:blip r:embed="rId1"/>
          <a:stretch/>
        </p:blipFill>
        <p:spPr>
          <a:xfrm>
            <a:off x="3708360" y="5300640"/>
            <a:ext cx="2313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S&amp;P ppt slides_01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lue of Partnership</a:t>
            </a:r>
            <a:endParaRPr b="1" lang="en-US" sz="3200" spc="-1" strike="noStrike">
              <a:solidFill>
                <a:srgbClr val="5ca65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1280" y="31417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que Part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orandum of Understanding underpins part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veraging knowledge, advocacy and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onger influence for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S&amp;P ppt slides_01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ject design</a:t>
            </a:r>
            <a:endParaRPr b="1" lang="en-US" sz="3200" spc="-1" strike="noStrike">
              <a:solidFill>
                <a:srgbClr val="5ca65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 project stages are identifi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oping – during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ultation – workshops mid - late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ation – 08/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ion -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S&amp;P ppt slides_01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8207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lthy Spaces and Places project is about:</a:t>
            </a:r>
            <a:endParaRPr b="1" lang="en-US" sz="2800" spc="-1" strike="noStrike">
              <a:solidFill>
                <a:srgbClr val="5ca656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2852640"/>
            <a:ext cx="82803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gnizing how everyday urban management decisions can influence people’s health and well-be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gnizing the complexity and cross-disciplinary/sectoral nature of the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ising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ting a national policy 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ing current State/local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S&amp;P ppt slides_01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are we trying to achieve?</a:t>
            </a:r>
            <a:endParaRPr b="1" lang="en-US" sz="2800" spc="-1" strike="noStrike">
              <a:solidFill>
                <a:srgbClr val="5ca65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360" y="292392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oved understanding amongst health and planning professionals of how the built environment influences active liv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ople engaging in regular physical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se of belonging and social i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se of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itive health impacts on future health bu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stained economic well-be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656"/>
                </a:solidFill>
                <a:latin typeface="Verdana"/>
              </a:rPr>
              <a:t>Outline</a:t>
            </a:r>
            <a:endParaRPr b="1" lang="en-US" sz="3600" spc="-1" strike="noStrike">
              <a:solidFill>
                <a:srgbClr val="5ca65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health status of Austral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planning and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ealthy Spaces and Places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planning and design for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ca656"/>
                </a:solidFill>
                <a:latin typeface="Verdana"/>
              </a:rPr>
              <a:t>Urban planning - Australian context</a:t>
            </a:r>
            <a:endParaRPr b="1" lang="en-US" sz="3200" spc="-1" strike="noStrike">
              <a:solidFill>
                <a:srgbClr val="5ca65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21 Million People; 85% live in cities, mainly along eastern &amp; SE coas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ree tiers of government – Federal, State/Territory and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lanning Challen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geing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ousing Afford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limat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ca656"/>
                </a:solidFill>
                <a:latin typeface="Verdana"/>
              </a:rPr>
              <a:t>Australian suburban environments</a:t>
            </a:r>
            <a:endParaRPr b="1" lang="en-US" sz="3200" spc="-1" strike="noStrike">
              <a:solidFill>
                <a:srgbClr val="5ca65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 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r public transport and links to public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rns about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r public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r access to fresh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outside Centro"/>
          <p:cNvPicPr/>
          <p:nvPr/>
        </p:nvPicPr>
        <p:blipFill>
          <a:blip r:embed="rId1"/>
          <a:stretch/>
        </p:blipFill>
        <p:spPr>
          <a:xfrm>
            <a:off x="5003640" y="4114800"/>
            <a:ext cx="3961080" cy="2743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" descr="P1010081"/>
          <p:cNvPicPr/>
          <p:nvPr/>
        </p:nvPicPr>
        <p:blipFill>
          <a:blip r:embed="rId2"/>
          <a:stretch/>
        </p:blipFill>
        <p:spPr>
          <a:xfrm>
            <a:off x="5003640" y="1700280"/>
            <a:ext cx="396108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5ca656"/>
                </a:solidFill>
                <a:latin typeface="Verdana"/>
              </a:rPr>
              <a:t>Health of Australians</a:t>
            </a:r>
            <a:endParaRPr b="1" lang="en-US" sz="3600" spc="-1" strike="noStrike">
              <a:solidFill>
                <a:srgbClr val="5ca65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demic of chronic diseases -  cardiovascular diseases, arthritis, diabetes, can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sity rates doubled in Australia since 198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% of Australian adults obese (2002) - double the rate of 19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13,000 deaths per year in Australia attributed to physical in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ental heal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orders are prevalent and increasing -1 in 5 people in Australia are affected by a mental health problem in any 1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656"/>
                </a:solidFill>
                <a:latin typeface="Verdana"/>
              </a:rPr>
              <a:t>Urban Planning and Health</a:t>
            </a:r>
            <a:endParaRPr b="1" lang="en-US" sz="3600" spc="-1" strike="noStrike">
              <a:solidFill>
                <a:srgbClr val="5ca65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48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trategic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dopt health considerations as core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Policy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corporate health considerations into policies, strategies and plans across a range of business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Project Ini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mplement projects that support health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urban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tatutory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pply healthy planning and design guide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539640" y="692280"/>
            <a:ext cx="8604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329080" y="6261120"/>
            <a:ext cx="3851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656"/>
                </a:solidFill>
                <a:latin typeface="Verdana"/>
              </a:rPr>
              <a:t>Strategic framework</a:t>
            </a:r>
            <a:endParaRPr b="1" lang="en-US" sz="3600" spc="-1" strike="noStrike">
              <a:solidFill>
                <a:srgbClr val="5ca65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on &amp; mission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programs – Go for Your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documents – Liveable Neighbourhoods WA, Sustainable Neighbourh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ropolitan plans e.g. Melbourne 2030, Sustainable Sydney 20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planning policies – car parking, housing choice, increasing dens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S&amp;P ppt slides_01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HS&amp;P ppt slides_01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916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nership</a:t>
            </a:r>
            <a:endParaRPr b="1" lang="en-US" sz="3200" spc="-1" strike="noStrike">
              <a:solidFill>
                <a:srgbClr val="5ca65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280" y="2708280"/>
            <a:ext cx="756108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ealthy Spaces and Plac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a partnership betwe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stralian Local Government Asso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eart Foundation of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ning Institute of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project has received funding assistance from the Australian Government Department of Health and Age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02:08:18Z</dcterms:created>
  <dc:creator>catrionam</dc:creator>
  <dc:description/>
  <dc:language>en-US</dc:language>
  <cp:lastModifiedBy>karen.Wright</cp:lastModifiedBy>
  <dcterms:modified xsi:type="dcterms:W3CDTF">2009-08-06T03:51:51Z</dcterms:modified>
  <cp:revision>215</cp:revision>
  <dc:subject/>
  <dc:title>Healthy by Design</dc:title>
</cp:coreProperties>
</file>